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94705"/>
        <c:axId val="20113066"/>
      </c:barChart>
      <c:catAx>
        <c:axId val="50494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13066"/>
        <c:crosses val="autoZero"/>
        <c:auto val="1"/>
        <c:lblAlgn val="ctr"/>
        <c:lblOffset val="100"/>
        <c:noMultiLvlLbl val="0"/>
      </c:catAx>
      <c:valAx>
        <c:axId val="20113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94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BE3-8AAA-4370-9AF1-6450AF38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7DC-8B87-4E4E-9566-70F8D2AF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CB3-1A1E-472A-A8AC-6682C62E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1A8-F60D-4F0B-9F0D-7018059B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BCF-5DC8-49C6-B1FD-9C28748B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2AF-3044-4996-BC82-BDF8673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1FE-0C7D-4400-AF39-94A62FB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DC8-BBE0-4F8F-B582-401BDD7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8C4-9D4B-44C7-9C8B-40655902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806-C7B6-46B0-BCBF-FB24A67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C78-F6BA-4511-818A-01663C0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CAC-C510-4337-A487-C2DEE2B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40CF7-C453-4F61-BF9E-FB04D37773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