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11198"/>
        <c:axId val="86485455"/>
      </c:barChart>
      <c:catAx>
        <c:axId val="45011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85455"/>
        <c:crosses val="autoZero"/>
        <c:auto val="1"/>
        <c:lblAlgn val="ctr"/>
        <c:lblOffset val="100"/>
        <c:noMultiLvlLbl val="0"/>
      </c:catAx>
      <c:valAx>
        <c:axId val="86485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1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EB7-0212-45FA-8685-9B1F2DA6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8FD-BA3E-45C5-82D4-BAACD53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ED1-EEA1-4DDF-9BB6-C4DE2909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7AF-9504-4247-BE2D-95AD6592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C0-2A4E-484F-B7AE-8FC0207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E56-B94E-4E33-BBF4-7FE7621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5D3-215C-4058-BABE-67CEBEA6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EDD-5C05-48FC-88E2-71C78D0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5EC-C3E2-41C0-8F16-2760341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D3B-50FD-49DD-8928-BB985EB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D6B-B99D-4CCA-96C2-9849919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80B-EE78-49AE-BA0E-79AF88C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CE6A3-F182-4B0C-BEB9-AE9C1CC46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