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631907"/>
        <c:axId val="72026411"/>
      </c:barChart>
      <c:catAx>
        <c:axId val="626319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26411"/>
        <c:crosses val="autoZero"/>
        <c:auto val="1"/>
        <c:lblAlgn val="ctr"/>
        <c:lblOffset val="100"/>
        <c:noMultiLvlLbl val="0"/>
      </c:catAx>
      <c:valAx>
        <c:axId val="72026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319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CD0-BA09-4E1A-B01E-FC6166D3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283B-226D-4F51-A720-FA3A50A0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FB3D-366D-485C-837D-0C1DB18A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052C-EBEE-4153-AE8B-BFC3BFBA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D916-6E09-4A2D-803F-1BE23D30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80BE-81FC-49E9-A72A-9DE0BC91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974A-9015-42D9-AE6E-59268BE7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FA99-981E-4E94-8101-A822E2BF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756-8A77-4D40-9287-D0F68151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3783-9E2B-4DFA-940D-8D6AFFF6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C02F-AAD0-454F-9EF8-8A4B2B4F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E8B-7546-41FA-8DD6-A615FA48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BE222-A1CF-4683-9AF1-DEEEDF4AA2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