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988839"/>
        <c:axId val="79659338"/>
      </c:barChart>
      <c:catAx>
        <c:axId val="309888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59338"/>
        <c:crosses val="autoZero"/>
        <c:auto val="1"/>
        <c:lblAlgn val="ctr"/>
        <c:lblOffset val="100"/>
        <c:noMultiLvlLbl val="0"/>
      </c:catAx>
      <c:valAx>
        <c:axId val="796593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888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5D89-D0B9-46F0-BF3D-1D0E51BC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7BC7-3C34-4CED-95C2-5FBC6E37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6254-CD2B-44F5-998D-739C6730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5F5F-9D17-499A-94A3-D60B1280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050F-3152-4FC0-A0B7-8430BD68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19D7-1E80-4D77-8F86-7CE580DB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C816-32DB-4A74-A4DF-3628D1FE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ADF0-0954-4431-B3AD-6CC0145E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E13E-5C09-4CD4-88D3-C5B76DAC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6992-BAAB-4D41-8140-905C9DFF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B729-9357-4C62-BF93-935C03EB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D2E5-5DFF-4B31-988B-DCACD4D2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081D9-DCBF-47B7-9C80-95BD555F5C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