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36079"/>
        <c:axId val="23260669"/>
      </c:barChart>
      <c:catAx>
        <c:axId val="614360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60669"/>
        <c:crosses val="autoZero"/>
        <c:auto val="1"/>
        <c:lblAlgn val="ctr"/>
        <c:lblOffset val="100"/>
        <c:noMultiLvlLbl val="0"/>
      </c:catAx>
      <c:valAx>
        <c:axId val="23260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360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C8A-0223-4B31-9018-18046DCD7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345-7D2E-4337-A1DE-5FD46C5F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AD1-8396-4D99-8927-45E12C6F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005A-EBFA-4FF0-981F-46DBE218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3672-FFC1-43DC-8A76-FD0C75DC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365B-7119-4B16-9220-BA71D2A8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2CA4-2C69-49E3-A3D9-397034BA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F3EA-63B3-4142-B54C-64C540AD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7EF-925B-4FDA-B483-89AEE9ED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7EF0-44D9-4FBF-AD4C-F9A64738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143-24FD-425C-90E1-EB7A9137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A3CE-C53C-468D-ACA6-944BC17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9A751-EF64-430B-8F06-637590C2F2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