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24755"/>
        <c:axId val="29888487"/>
      </c:barChart>
      <c:catAx>
        <c:axId val="18324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88487"/>
        <c:crosses val="autoZero"/>
        <c:auto val="1"/>
        <c:lblAlgn val="ctr"/>
        <c:lblOffset val="100"/>
        <c:noMultiLvlLbl val="0"/>
      </c:catAx>
      <c:valAx>
        <c:axId val="29888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24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72D-5DBF-4F10-8015-E4133E65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C85-39C3-48B2-969E-26C332EF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C0C-BE3E-47EF-92DE-449BE501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D06-5858-4E67-A5D0-735A6AE6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995-C6A2-4B29-9127-A9EB4EB9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120-2150-4191-ADEC-8CF52B94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934-C45A-49A6-8E4D-E02611FA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A18-949A-46D9-A879-82645974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2FE-EB89-4108-A86A-C2B9B818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B5E-1B18-43BB-98D2-006C829B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85B-0578-4BD3-BB72-3689C15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A4A-3916-4F49-BAE6-1DD69AB7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BDD61-7482-4F7C-B1AC-FDA91D3D37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