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6534"/>
        <c:axId val="63142607"/>
      </c:barChart>
      <c:catAx>
        <c:axId val="87676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2607"/>
        <c:crosses val="autoZero"/>
        <c:auto val="1"/>
        <c:lblAlgn val="ctr"/>
        <c:lblOffset val="100"/>
        <c:noMultiLvlLbl val="0"/>
      </c:catAx>
      <c:valAx>
        <c:axId val="63142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6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74E-E6E8-4D63-B242-368AA9B5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6A5-F7C5-42F2-BDF8-6429827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63B-8D18-4DF0-92E2-692362D7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26A-1322-4A30-B49C-2F628F72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D32-D3CA-4B4E-AEB5-10A462C8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AD4-A908-4A63-8BEB-D3A1B79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2C8-0D85-46D8-BBDA-496E0C3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D2F-D43E-4E06-981A-1CB44A3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24C-A7A5-4E38-981F-D79AA06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7A7-C22F-4F4F-B4E3-6A29C66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891-5C94-47FE-9FED-578ADAB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431-D1AF-4D88-9AD1-B0AFFF7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33F4D-4DE4-4F62-A9F7-6744D776A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