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6201"/>
        <c:axId val="91952322"/>
      </c:barChart>
      <c:catAx>
        <c:axId val="8246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52322"/>
        <c:crosses val="autoZero"/>
        <c:auto val="1"/>
        <c:lblAlgn val="ctr"/>
        <c:lblOffset val="100"/>
        <c:noMultiLvlLbl val="0"/>
      </c:catAx>
      <c:valAx>
        <c:axId val="91952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346-EC74-4550-82EA-89C2BA18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15B-43A2-49FD-BC73-DB0ADEC1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593-DE7B-4DF9-B214-C8C24D36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9D9-A12D-47E9-9C95-EF79A2F9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882-F822-4CEA-B9B9-10678BD6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758-2F53-4CB5-867A-E63CFD01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37C-14CE-4909-B233-39B70EC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D24-F63E-4119-9590-E0632E4E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F50-3870-44B4-A474-C011A833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B52-C7BA-48B8-AFA4-009DB7F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126-1DF4-4216-8B9D-CD47494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0FC-4427-4DAE-A7AC-84F3604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CE0E7-7093-4BF6-A4AE-34CDB8CBB0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