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672156"/>
        <c:axId val="39251009"/>
      </c:barChart>
      <c:catAx>
        <c:axId val="726721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251009"/>
        <c:crosses val="autoZero"/>
        <c:auto val="1"/>
        <c:lblAlgn val="ctr"/>
        <c:lblOffset val="100"/>
        <c:noMultiLvlLbl val="0"/>
      </c:catAx>
      <c:valAx>
        <c:axId val="392510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6721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B44E-8E24-46EE-9A02-08A1BCD5D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843C-6DA4-4939-8860-C84F3D77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BB4B-D35D-46BB-94E3-935B7A67E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863F-DC07-4405-834D-F4CB9E4E8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BBE7-18CE-4D14-BC9A-23AFCAD5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94B2-E4BA-4E36-8CDC-5587996C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9F18-7FD8-4C6C-876D-0253BD03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751C-5E6A-47BE-98F7-5FEAA17D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3953-99B3-4A1C-A875-74CC67F9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4B3C-3314-4E51-A3C3-34538BFB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E795-A4B5-44D4-9B30-908ABEC6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D88E-F291-4B19-8AC6-6E182A9C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397FD4-0C90-4782-AACB-EF66CC8C6C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