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00101"/>
        <c:axId val="13146282"/>
      </c:barChart>
      <c:catAx>
        <c:axId val="69001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46282"/>
        <c:crosses val="autoZero"/>
        <c:auto val="1"/>
        <c:lblAlgn val="ctr"/>
        <c:lblOffset val="100"/>
        <c:noMultiLvlLbl val="0"/>
      </c:catAx>
      <c:valAx>
        <c:axId val="131462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01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5C1C-F526-4C44-AB42-A9604D54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01C2-46B8-4EC5-A6E2-5393D9DB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9DD3-B381-4951-8755-D785861B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7162-37CC-4C2D-B22A-1CA4BA4E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296-54D5-4A39-BABB-BC0DEBCB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FA74-B35A-4B24-B370-99C4E4B5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A8F-ABEB-43F6-AE1D-6B60FDC4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BEE-DE00-40EC-A2E5-0DA45EC2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758A-BF6C-4A1B-BBA1-9C03E17F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8552-F4D3-48C3-B755-683BCF19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8105-0E95-4FE5-B647-F31FBE0D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ED76-FC70-4217-872D-2BDF3879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E6657-32E0-4705-B9E6-D08E1DD98F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