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3417"/>
        <c:axId val="66551341"/>
      </c:barChart>
      <c:catAx>
        <c:axId val="2423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51341"/>
        <c:crosses val="autoZero"/>
        <c:auto val="1"/>
        <c:lblAlgn val="ctr"/>
        <c:lblOffset val="100"/>
        <c:noMultiLvlLbl val="0"/>
      </c:catAx>
      <c:valAx>
        <c:axId val="66551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3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816-A831-4E59-A1B8-2F20F5EC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620-C261-44AC-9CBD-75689584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FC8-60A8-412A-9EBC-41B90039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35D-BAF2-4D76-896E-4D8D9EEE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E51-918E-4D49-9C14-A99F54AE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582-455E-44F1-BB76-125E197B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0C5-C9F9-4B11-AB25-6EC13E0A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596-FAF2-41A1-9A56-8E62F726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F153-2F37-4163-99C3-2D077ADE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A582-2294-467B-BDF9-0E39603A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1C7-7ECC-43AB-ABA0-00D40C13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337-D5C2-471B-8986-40BE62EC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93FE1-52E3-4329-A8C7-A7AD98B234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