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4117"/>
        <c:axId val="97441419"/>
      </c:barChart>
      <c:catAx>
        <c:axId val="87714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41419"/>
        <c:crosses val="autoZero"/>
        <c:auto val="1"/>
        <c:lblAlgn val="ctr"/>
        <c:lblOffset val="100"/>
        <c:noMultiLvlLbl val="0"/>
      </c:catAx>
      <c:valAx>
        <c:axId val="97441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4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2E-23A0-4F30-9FC0-7B40C010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F19-5808-4AF9-A9AA-6CC0E42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ACE-6655-4E8B-907B-543E0BBD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41F-5471-405B-9EA0-D7C50BCD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22F-DCD8-49C4-8F86-8CADAE0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C2B-B081-48D4-90CD-FDB3D97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2D1-9876-4C31-A2A8-3F31F01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A41-FA54-4AC4-8FED-6F4A657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867-02DF-472B-96DD-3664753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C76-9D39-4D19-B21F-D4FE340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DB6-15C0-4781-BFC6-37D3CFE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D55-B812-4578-B38B-228A5BF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CF131-A2C5-4D72-935F-D49913205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