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80450"/>
        <c:axId val="1079446"/>
      </c:barChart>
      <c:catAx>
        <c:axId val="58080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446"/>
        <c:crosses val="autoZero"/>
        <c:auto val="1"/>
        <c:lblAlgn val="ctr"/>
        <c:lblOffset val="100"/>
        <c:noMultiLvlLbl val="0"/>
      </c:catAx>
      <c:valAx>
        <c:axId val="1079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80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909-C60D-49FE-AEB0-8A248E62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6A6-5DFD-4DBD-95F5-8AFD37C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078-2A6C-428C-96DB-6DCD1EBF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CAB-10FE-413B-9944-B2FB1E55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2CC-D2E7-4305-8FC5-80DCC3DB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D49-19DE-47F4-BCC1-C9137D7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9C5-2E17-41AE-A528-F4251C8E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8B0-F037-47A0-ACDA-12A02DB5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5DA-2159-4170-8E9F-AA2870FE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39E-8BB5-4E11-91A6-E378C8D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DC1-28A2-4082-BB57-16EBE32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A21-8564-4AFB-B8B8-9BA68DB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2A14B-C553-4FF1-AE14-B5EFF5A8D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