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55799"/>
        <c:axId val="22159524"/>
      </c:barChart>
      <c:catAx>
        <c:axId val="50455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59524"/>
        <c:crosses val="autoZero"/>
        <c:auto val="1"/>
        <c:lblAlgn val="ctr"/>
        <c:lblOffset val="100"/>
        <c:noMultiLvlLbl val="0"/>
      </c:catAx>
      <c:valAx>
        <c:axId val="22159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55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7AA-6C6E-4011-825F-DB59E60B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C36-C011-4B47-A752-D04EE9A9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139-758F-4BD5-B279-F9547F34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613-FDFA-46D0-B1FF-5D6898A4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C58-FE38-4F00-A0C7-062E998F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1EB-963C-4913-83A5-6C68DE47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D5B-BFA9-4CEF-A9AB-64DF1741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B8E-90CB-405E-84DC-56A02E89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770-8D3A-4A2D-A335-314E397B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4A8-569C-4A75-B1FE-A28B9CC3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4A9D-AEA2-4962-B05E-BB946FE6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15B-A844-47DE-9336-A8C9F943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81B17-6D07-4750-ADCE-93730663B0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