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36408"/>
        <c:axId val="55963017"/>
      </c:barChart>
      <c:catAx>
        <c:axId val="21036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63017"/>
        <c:crosses val="autoZero"/>
        <c:auto val="1"/>
        <c:lblAlgn val="ctr"/>
        <c:lblOffset val="100"/>
        <c:noMultiLvlLbl val="0"/>
      </c:catAx>
      <c:valAx>
        <c:axId val="559630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36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29D-3CC3-44F2-90BD-9B83FC0E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C38-9393-4796-9C89-10E8973D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627-D3FA-4392-A224-A49F7DCB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922-02D0-4302-956B-CECF7585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FD1-A38B-412C-9EE6-C388BE42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037-4AA4-4D77-8131-84AEBFF6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44AB-7B40-4F25-B03C-8CAAFDA0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019-5745-427C-863B-48BFECC0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5C7-9EB1-4616-B6F0-1B12768A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A65-A1AE-4D38-8225-6F821B9C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598-D044-43FE-A9AC-F2B3D48C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A42-1205-48C0-B67F-B543151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0F3AD-10F6-4B85-9029-077E2FAA23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