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434103"/>
        <c:axId val="46749009"/>
      </c:barChart>
      <c:catAx>
        <c:axId val="724341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49009"/>
        <c:crosses val="autoZero"/>
        <c:auto val="1"/>
        <c:lblAlgn val="ctr"/>
        <c:lblOffset val="100"/>
        <c:noMultiLvlLbl val="0"/>
      </c:catAx>
      <c:valAx>
        <c:axId val="467490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341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BE03-8860-4F66-AB88-0C6755E8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2777-F697-4C77-9ACB-41C62412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C37D-642A-4395-B67C-980AF21C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23AF-A77E-4C63-9623-DA24EF6B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85E3-3EC4-480E-9205-C0709918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B7CE-1344-4227-8E4F-E8AC8142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D320-4100-474C-8029-A25250FB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4956-ACE3-498E-BCCC-A6D6E0ED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4F3F-8C5E-49E1-B119-545FF981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77C0-6D2D-4AA6-A496-FC470EDB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EA2D-600D-4172-A261-A97AC978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4351-23E3-4343-86B3-297D1B19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7757D-F0DD-4A6C-A101-2D02181EA4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