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98245"/>
        <c:axId val="1724783"/>
      </c:barChart>
      <c:catAx>
        <c:axId val="70998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4783"/>
        <c:crosses val="autoZero"/>
        <c:auto val="1"/>
        <c:lblAlgn val="ctr"/>
        <c:lblOffset val="100"/>
        <c:noMultiLvlLbl val="0"/>
      </c:catAx>
      <c:valAx>
        <c:axId val="1724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98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6D5-C83E-4FDA-8DA2-B52875D9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DE8-4F90-4094-83B5-F49286E0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117-203D-44DC-8B15-417885A4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211-BCB3-4229-8E0E-02C5E67B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22D-0ADF-4676-9485-6043ECAF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AA6-3863-4D59-8645-6567E176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713-10CC-41AD-B581-7A45A7AE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0A6-EBE8-4302-ABF1-10A9217E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C57-01C1-4FEB-9DA0-D3C680F0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853-4C4E-4755-AD80-9F03BB00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4AC-9652-475C-B600-7ADA11D6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A18-8423-411D-A6FE-7BF33D8C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6911C-6376-49F7-BCD4-02B312901C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