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98141"/>
        <c:axId val="41435687"/>
      </c:barChart>
      <c:catAx>
        <c:axId val="68998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35687"/>
        <c:crosses val="autoZero"/>
        <c:auto val="1"/>
        <c:lblAlgn val="ctr"/>
        <c:lblOffset val="100"/>
        <c:noMultiLvlLbl val="0"/>
      </c:catAx>
      <c:valAx>
        <c:axId val="41435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98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634-FC0E-4F4B-9EEA-C947CA24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B9F-F493-4F3A-A8AC-145E7B1C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65D-278E-47F2-AFDF-66486FEE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C68-2C92-47FB-8919-2E01BE83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EA9-DB78-4A8D-82C6-597AC8E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3D4-996F-44CF-9F7E-CCEB1D18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F51-231D-4495-8A68-6B57F5F4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BEA-8CDD-45BB-93C9-E2BCBAFF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1AA-6ECB-48DC-B37B-3FDF93D0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A60-BF20-43BD-ACD2-88E9CE84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A40-4AF8-4E61-A85F-B3628531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DDB-68FF-4D9C-BC27-090FC15C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257DA-2240-4681-BBE0-3CDCDA0020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