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98438"/>
        <c:axId val="13952746"/>
      </c:barChart>
      <c:catAx>
        <c:axId val="87498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52746"/>
        <c:crosses val="autoZero"/>
        <c:auto val="1"/>
        <c:lblAlgn val="ctr"/>
        <c:lblOffset val="100"/>
        <c:noMultiLvlLbl val="0"/>
      </c:catAx>
      <c:valAx>
        <c:axId val="13952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98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867-0D93-4354-8CB0-1C8832EA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E40-C348-49EA-B327-BA08E827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4C4-01AE-4B7D-B5C0-D0354025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B06-D834-4DE3-9532-CD2312BC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272-8615-4254-A9C4-BD49375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683-FA8A-4F26-B321-A5A81BF9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3E5-1FE2-41B0-BF9C-88CCB4D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6B3-8081-43C2-8AD5-CCDBE08C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36A-F964-442A-A100-A4F1D8FE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9E7-D46D-447B-9E4C-D1465B83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0678-3B00-4BFB-B7DB-1CC012E8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D20-5B6A-4AF3-9BCA-6AD91912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CA66A-77AA-45CF-A5B2-F052524EC1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