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99883"/>
        <c:axId val="24227120"/>
      </c:barChart>
      <c:catAx>
        <c:axId val="14899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27120"/>
        <c:crosses val="autoZero"/>
        <c:auto val="1"/>
        <c:lblAlgn val="ctr"/>
        <c:lblOffset val="100"/>
        <c:noMultiLvlLbl val="0"/>
      </c:catAx>
      <c:valAx>
        <c:axId val="24227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99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047-78F8-4D18-BB91-98C400F4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2FC-6CA2-4303-85BD-6315D4B6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2F8-4552-4D48-9145-044AD428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1F7-8928-46EC-9414-396F309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D34-298E-4170-9C75-CDCD0429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E3D-5A41-4F23-8804-ED88EA4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04F-71AB-4742-B25A-E3FE3F3B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C474-7AC0-4A82-A133-10C38EE8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7B5-999C-4578-A057-E7EB07D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B4BD-ADD2-4FAB-B898-F154154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41B-3212-459E-9A83-D04F1DA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CB8-ECDC-4955-9CE1-E4FA5FB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4BB1-511C-4F47-A808-D8CBA52DC4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